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EE3E-CDE3-490B-9F57-849E27653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CEE7-EF23-4E9D-B7DE-A306F4C3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312-7066-4324-B7D5-F6878738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889-8C1F-4147-AA64-324D4AF0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97B-33A1-4ADF-8F39-B484C323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312A-6F2B-4C19-B3AE-4C67A6D7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063-0757-44CD-A1CA-BD78315D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FD54-15A9-48F3-877E-3F024108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0C80-EA09-4E0F-8DA8-F41E115C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27C-9170-494D-82A0-5418C748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DA22-7317-4C71-BE96-439AE258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0BF-C39B-42DD-ACBD-1832EED5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432-CAA2-4E3E-9D07-EA3AE3CE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4D00-1F4E-4DCE-AA5A-891B2A995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</cp:lastModifiedBy>
  <dcterms:modified xsi:type="dcterms:W3CDTF">2016-12-07T08:34:14Z</dcterms:modified>
  <cp:revision>46</cp:revision>
  <dc:subject>Endocrine and nervous system</dc:subject>
  <dc:title>Endocrine and nervous system</dc:title>
</cp:coreProperties>
</file>